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CA53-3315-4D4C-97DD-63734DE2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E780-8237-4803-9C75-78B7D672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51B9-8B44-4E3C-BB2C-C6795956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E4C9-1208-4DF7-B9D9-A83683DD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A1F8-CA50-490B-986D-6F619A3E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817D-0882-46E8-965F-4251E1FA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1E36-C260-4E82-8374-5DBE56E6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B614-08FA-4CA5-836A-CC3766B1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C5AC-FC23-49F1-A949-B9569873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1A25-3E1F-44E0-9A23-EB81098B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078D-D59B-47F1-905E-E2487ACE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C66B-F267-402C-94B1-4D18F942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1D87-D6CA-4104-AEBB-7A222EC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22BD-8082-4F2D-8AA2-B1D6173F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3110-33BD-404B-87BB-5B5BD537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56D1-EDDE-4ACB-882E-E3FAC987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743E-CFDB-4A83-9FA5-909CCA39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FBC4-575D-45CA-88E7-AD494A98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A3BA-4759-484E-8E9E-5BDC3778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2688-F71E-47B9-98C9-080B9D4D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0A4F-1843-4EF0-A802-D6ADF509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54AE6-D455-4192-A0C2-455D11D9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1AE9-FC0D-46FE-A37F-04A31FC9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44E5-E418-42CD-83A2-DB670214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3F6F-B1C7-4FE3-813D-CC039ED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6973-9B7F-4ECE-A90B-25C116ED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91D3-2487-489A-B672-7BE7CEBD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CBC7-D03C-456B-AD85-B7DD41FC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DC32-153B-4D31-968A-44F26190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DDE41-07F0-40D9-A9A6-70E349E8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F9CB-C9C3-4446-A209-CD122B11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BB85-0E46-416B-98D1-733F6FD1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3B36-65A4-44F0-9426-EFF47629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9F2C-8C3D-4379-8D37-450C3C74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1058-1029-4D7A-B299-8187F37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4FE3-1C48-427C-94D0-245139DB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83C-5085-4067-9D4F-AF7245E8AC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0665-AAB4-4CE2-8074-DC0FCFE2A8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9D56-F5FA-40F5-AAB8-3D02FCEEA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huvrdub.ru/towns_herours.html" TargetMode="External"/><Relationship Id="rId2" Type="http://schemas.openxmlformats.org/officeDocument/2006/relationships/hyperlink" Target="http://www.publiclibrary.ru/readers/read/childread-obo-vsem-na-svete-o-voine-rasskazhet-kniga-goroda-geroi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274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еликая       Отечественная Война     глазами сов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удентки 4 курса             филологического факультета  КГ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ызьюровой Анастасии Андре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5300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445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4076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0  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Основополагающий вопрос нашего проекта: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27664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234936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2133720"/>
            <a:ext cx="532944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Почем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озникаю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ойны 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Проблемные вопросы 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ы подвиги, победы и поражения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города-герои отличились своими подвигами в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ы последствия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отношение современной молодёжи к ВОВ и её участникам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Дидактические цели проект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ся с событиями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о трагических последствиях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ценить великий вклад участников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Представление результатов исследован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товы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2371680" cy="1726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2305080" cy="1726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40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Распределение по группа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765000"/>
          <a:ext cx="8229600" cy="6004080"/>
        </p:xfrm>
        <a:graphic>
          <a:graphicData uri="http://schemas.openxmlformats.org/drawingml/2006/table">
            <a:tbl>
              <a:tblPr/>
              <a:tblGrid>
                <a:gridCol w="1738440"/>
                <a:gridCol w="3960720"/>
                <a:gridCol w="253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стники 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ы подвиги , победы и поражения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ие города-герои отличились своими подвигами в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ы последствия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о отношение молодёжи к ВОВ и ее участникам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Этапы проведения проекта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 и формулирование тем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оиск информ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Самостоятельная работа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Защита про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Информационные ресурсы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Истории для 10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www.chuvrdub.ru/towns_herours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www.publiclibrary.ru/readers/read/childread-obo-vsem-na-svete-o-voine-rasskazhet-kniga-goroda-geroi.ht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5:55Z</dcterms:created>
  <dc:creator>студент</dc:creator>
  <dc:description/>
  <dc:language>en-US</dc:language>
  <cp:lastModifiedBy>студент</cp:lastModifiedBy>
  <dcterms:modified xsi:type="dcterms:W3CDTF">2010-04-21T09:44:30Z</dcterms:modified>
  <cp:revision>16</cp:revision>
  <dc:subject/>
  <dc:title>Великая       Отечественная Война     глазами современности</dc:title>
</cp:coreProperties>
</file>